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3196-39BD-4617-A53E-2C8472506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9682-8EAE-47FA-90C3-27DE9AE8B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97C1-57D9-4877-9D8C-631F8804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ffices outside; officeless offices; shared 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8F1C-8487-4527-8536-FC2EBC2BF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nion lea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6051-1527-43EE-A65B-A5EE04BBD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“routine” not the trigger or the reward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9C27-51C6-41ED-851F-915A04898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f Involvement – extent to which people connect themselves with a situation (what Pat called problem personaliz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7B82-DC34-4D17-B82C-BFC495DA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= P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sity = high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vity = low pay, limited responsib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9B8B-EFB9-4FCA-BAE7-741CD5B0A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1DA9-879D-4315-86EE-8AB6A6F36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ing and dr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z examples – employee health (more café, parking farther from building (engineering) charge less for health insurance deductible (enforcement); running clubs (soc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5156-FCAC-4848-9D1E-C634D387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4420-4B90-41CD-A6E3-D398291450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C6FD-0574-4A18-A3D8-54FF7BC6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2568-99D3-4541-AFA4-CC0E31463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line Kio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market self check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4636-6F88-46F2-BE0E-B7DB30462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unig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Attitude 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A5D6-5F5A-451A-9E87-40547AF40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Aversion – create expectation with inappropriate employee re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Quo Bias – devil we know vs. devil we don’t;  stay with a company even though unhappy and un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6A10-9853-4FFD-9A30-BF7D2919D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vs perceptions; making appeals emotional not rationale; even those who say they are rationale are emotional (poli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32CD-71CF-4759-9C97-E0C1B1DF7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news, not all about money, but responsibility for helping supervisors, managers, learn to give approval;  does not license big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222-A766-47E1-B298-854BC3CF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358-676E-4098-9BC5-FAB2BA4B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35A-9B03-4EAD-9605-5B9BF22F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9B4-5524-4439-9F6D-CB16BE01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7038-C773-448D-BF54-0BC19838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04D9-CFFE-4D0E-B011-1853A06A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1298-9E6B-4545-A9FE-21B69659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8DA4-93AD-43E6-A0DA-1E21CE1C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5E8B-3C0C-4F03-9EB2-210CBC18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D870-A0FA-478A-8A37-A7A19325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262C-0CC8-4ACE-BD58-F622B6B7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B2B-EC6A-448E-A3B3-2B32A60C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95E0-15FC-4B2B-8CEA-86BDE48E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5332-5E2E-4C28-8A3E-4AAD9AD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1629-711B-48F3-968B-18750EF9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6FC9-402E-48A5-BDE9-1B99D8C2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B19C-0AC7-4208-9DC2-BC9C25E9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52EA-438D-48FD-B89B-7154DC84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83D9-F80C-441C-B13D-54F311E7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4A1B-F1AE-4405-80BA-267DBA1F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E471-E4BA-40FB-930B-0E7E76F6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6833-DA67-47CD-B873-0128402B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663-5F0B-4E8E-BE74-A93D8DC9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C5C6-A87F-4AEA-A703-DA01517E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38C5-F174-4726-AB61-F76DA518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FD02-0EFF-4992-9F4B-D19FBB57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EC5E6-C9FA-4AFD-AFF8-F3ACD030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E066-40D0-4654-8CD8-A28962D7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A99A-FEB4-4AB8-AD8B-79B41CA7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8392-8C98-4BD4-98E6-D2287657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98D-7D82-4BAF-999B-B01160A7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21F-6A8A-4577-974A-89F4DC42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EC6-1388-4BA7-9412-985195B9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02F-DD0C-4D02-B714-68378B2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3EB-862C-472E-827E-15AA6E0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330-61FA-43FD-8C79-D926CC0D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07D3-A2AB-4F60-B4DC-36EB438C40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9B64-DBBA-4855-B4EE-FC7898D0B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ABE8-FD5B-4378-927C-4D15D51CC3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Diffusionofideas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8/8d/Cemetery_in_Temple,_New_Hampshir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illsborough-Temple-NH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jjwpr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4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64A3-F9E7-455E-91D6-47152A36B1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ving Behavior and  The Bottom 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very Practitioner Needs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170E-9F90-442A-8E5B-DCC90D8BC9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nthropolo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ing – the need to make a place your own to be comfortable and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“officeless office” - unassigned workplaces “free address” or “non-territorial offic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A95A-2733-422C-A60F-0B305D21CA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(people) and Ties (connec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ggests that the attributes of individuals are less important than their relationships and ties with other actors within the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Opinion leader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463A-84F2-499D-86EF-9282CF5EB5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earning Theo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“Habit”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les Duhigg, “The Power of Habit: Why We Do What We Do in Life and Busines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Ste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e or Trigger (awak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utine (show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ward (feel clean/aler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9F04-42AA-4879-9985-00B5D0E224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blic Relations Behavioral Theor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nig’s Situational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 Behavio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teps to Behavi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ly’s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ger’s Diffusion of Innovation/Adopters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BB45-57DD-4D17-B9A0-68499D2241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runig’s Situational Theo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&amp; Passive communication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Variables (situa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of Involvement  (Problem Personaliz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aint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6A79-EB5D-40C5-BD40-56B0AF7DD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"/>
          <p:cNvSpPr/>
          <p:nvPr/>
        </p:nvSpPr>
        <p:spPr>
          <a:xfrm>
            <a:off x="4419720" y="121932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1905120" y="3200400"/>
            <a:ext cx="541008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572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905120" y="3200400"/>
            <a:ext cx="5029200" cy="36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blem Recognition   &amp; Person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1430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754380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895480" y="466560"/>
            <a:ext cx="3200400" cy="36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onstraint Recogni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038480" y="838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4038480" y="5791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105520" y="41148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ikelihood of behavi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2209680" y="144792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Likelihood of behavi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304920" y="38088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8839080" y="38052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304920" y="3808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8B0D-129B-46BF-B23B-D094138E1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2057400" y="228600"/>
            <a:ext cx="50292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ehavioral Public Relation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ww.jjwp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990720" y="685800"/>
            <a:ext cx="1279440" cy="201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066680" y="1143000"/>
            <a:ext cx="11541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743200" y="1447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838080" y="2895480"/>
            <a:ext cx="164628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990720" y="4648320"/>
            <a:ext cx="12794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2819520" y="4648320"/>
            <a:ext cx="12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4724280" y="4572000"/>
            <a:ext cx="146232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143000" y="3048120"/>
            <a:ext cx="990720" cy="109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990720" y="3505320"/>
            <a:ext cx="1279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371600" y="297180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1219320" y="43434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1066680" y="4800600"/>
            <a:ext cx="10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g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2819520" y="5105520"/>
            <a:ext cx="1280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3124080" y="4876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4800600" y="5029200"/>
            <a:ext cx="1281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274320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casionally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2286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41148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6248520" y="5486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27432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>
            <a:off x="51055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4876920" y="1600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5"/>
          <p:cNvSpPr/>
          <p:nvPr/>
        </p:nvSpPr>
        <p:spPr>
          <a:xfrm>
            <a:off x="28195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7086600" y="609480"/>
            <a:ext cx="1371600" cy="585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533520" y="2666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683A-8697-411B-9C96-792259386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057400" y="228600"/>
            <a:ext cx="50292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ehavioral Public Relation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ww.jjwp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990720" y="685800"/>
            <a:ext cx="1279440" cy="201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066680" y="1143000"/>
            <a:ext cx="11541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743200" y="1447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838080" y="2895480"/>
            <a:ext cx="164628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990720" y="4648320"/>
            <a:ext cx="12794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819520" y="4648320"/>
            <a:ext cx="12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4724280" y="4572000"/>
            <a:ext cx="146232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1143000" y="3048120"/>
            <a:ext cx="990720" cy="109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990720" y="3505320"/>
            <a:ext cx="1279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1371600" y="297180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1219320" y="43434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1066680" y="4800600"/>
            <a:ext cx="10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 typ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g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2819520" y="5105520"/>
            <a:ext cx="1280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3124080" y="4876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4800600" y="5029200"/>
            <a:ext cx="1281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274320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casionally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9"/>
          <p:cNvSpPr/>
          <p:nvPr/>
        </p:nvSpPr>
        <p:spPr>
          <a:xfrm>
            <a:off x="2286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41148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6248520" y="5486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27432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3"/>
          <p:cNvSpPr/>
          <p:nvPr/>
        </p:nvSpPr>
        <p:spPr>
          <a:xfrm>
            <a:off x="51055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4"/>
          <p:cNvSpPr/>
          <p:nvPr/>
        </p:nvSpPr>
        <p:spPr>
          <a:xfrm>
            <a:off x="4876920" y="1600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5"/>
          <p:cNvSpPr/>
          <p:nvPr/>
        </p:nvSpPr>
        <p:spPr>
          <a:xfrm>
            <a:off x="28195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7086600" y="609480"/>
            <a:ext cx="1371600" cy="585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7"/>
          <p:cNvSpPr/>
          <p:nvPr/>
        </p:nvSpPr>
        <p:spPr>
          <a:xfrm>
            <a:off x="533520" y="2666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9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2057400" y="2362320"/>
            <a:ext cx="2209680" cy="1828800"/>
          </a:xfrm>
          <a:prstGeom prst="rect">
            <a:avLst/>
          </a:prstGeom>
          <a:solidFill>
            <a:srgbClr val="993300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1"/>
          <p:cNvSpPr/>
          <p:nvPr/>
        </p:nvSpPr>
        <p:spPr>
          <a:xfrm>
            <a:off x="2286000" y="2590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derlying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EEA3-BE37-4CF2-867E-8FBA916FF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2057400" y="228600"/>
            <a:ext cx="50292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ehavioral Public Relation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ww.jjwp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990720" y="685800"/>
            <a:ext cx="1279440" cy="201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1066680" y="1143000"/>
            <a:ext cx="11541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2743200" y="1447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838080" y="2895480"/>
            <a:ext cx="164628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990720" y="4648320"/>
            <a:ext cx="12794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819520" y="4648320"/>
            <a:ext cx="12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4724280" y="4572000"/>
            <a:ext cx="146232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1143000" y="3048120"/>
            <a:ext cx="990720" cy="109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990720" y="3505320"/>
            <a:ext cx="1279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1371600" y="297180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1219320" y="43434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066680" y="4800600"/>
            <a:ext cx="10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 typ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g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2819520" y="5105520"/>
            <a:ext cx="1280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24080" y="4876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4800600" y="5029200"/>
            <a:ext cx="1281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8"/>
          <p:cNvSpPr/>
          <p:nvPr/>
        </p:nvSpPr>
        <p:spPr>
          <a:xfrm>
            <a:off x="274320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casionally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2286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41148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6248520" y="5486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27432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51055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876920" y="1600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5"/>
          <p:cNvSpPr/>
          <p:nvPr/>
        </p:nvSpPr>
        <p:spPr>
          <a:xfrm>
            <a:off x="28195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7086600" y="609480"/>
            <a:ext cx="1371600" cy="585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33520" y="2666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8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9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1981080" y="3962520"/>
            <a:ext cx="1905120" cy="1295280"/>
          </a:xfrm>
          <a:prstGeom prst="rect">
            <a:avLst/>
          </a:prstGeom>
          <a:solidFill>
            <a:srgbClr val="993300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1"/>
          <p:cNvSpPr/>
          <p:nvPr/>
        </p:nvSpPr>
        <p:spPr>
          <a:xfrm>
            <a:off x="2057400" y="41148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resses underlying 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D92E-612F-4E43-89D2-046D772CA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2057400" y="228600"/>
            <a:ext cx="50292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ehavioral Public Relation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ww.jjwp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990720" y="685800"/>
            <a:ext cx="1279440" cy="201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066680" y="1143000"/>
            <a:ext cx="11541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743200" y="1447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838080" y="2895480"/>
            <a:ext cx="164628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990720" y="4648320"/>
            <a:ext cx="12794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2819520" y="4648320"/>
            <a:ext cx="12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4724280" y="4572000"/>
            <a:ext cx="146232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1143000" y="3048120"/>
            <a:ext cx="990720" cy="109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990720" y="3505320"/>
            <a:ext cx="1279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1371600" y="297180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1219320" y="43434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1066680" y="4800600"/>
            <a:ext cx="10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g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2819520" y="5105520"/>
            <a:ext cx="1280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3124080" y="4876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4800600" y="5029200"/>
            <a:ext cx="1281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274320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casionally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9"/>
          <p:cNvSpPr/>
          <p:nvPr/>
        </p:nvSpPr>
        <p:spPr>
          <a:xfrm>
            <a:off x="2286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41148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>
            <a:off x="6248520" y="5486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2"/>
          <p:cNvSpPr/>
          <p:nvPr/>
        </p:nvSpPr>
        <p:spPr>
          <a:xfrm>
            <a:off x="27432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3"/>
          <p:cNvSpPr/>
          <p:nvPr/>
        </p:nvSpPr>
        <p:spPr>
          <a:xfrm>
            <a:off x="51055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4"/>
          <p:cNvSpPr/>
          <p:nvPr/>
        </p:nvSpPr>
        <p:spPr>
          <a:xfrm>
            <a:off x="4876920" y="1600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5"/>
          <p:cNvSpPr/>
          <p:nvPr/>
        </p:nvSpPr>
        <p:spPr>
          <a:xfrm>
            <a:off x="28195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7086600" y="609480"/>
            <a:ext cx="1371600" cy="585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533520" y="2666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9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0"/>
          <p:cNvSpPr/>
          <p:nvPr/>
        </p:nvSpPr>
        <p:spPr>
          <a:xfrm>
            <a:off x="3276720" y="3429000"/>
            <a:ext cx="1676160" cy="1676520"/>
          </a:xfrm>
          <a:prstGeom prst="rect">
            <a:avLst/>
          </a:prstGeom>
          <a:solidFill>
            <a:srgbClr val="993300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"/>
          <p:cNvSpPr/>
          <p:nvPr/>
        </p:nvSpPr>
        <p:spPr>
          <a:xfrm>
            <a:off x="3352680" y="39625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2"/>
          <p:cNvSpPr/>
          <p:nvPr/>
        </p:nvSpPr>
        <p:spPr>
          <a:xfrm>
            <a:off x="3352680" y="37339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inuum of Behavi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2994-C9A7-4EB4-9EBF-1D69F081BD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066680" y="1600200"/>
            <a:ext cx="79250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ver mind what our publics are thinking -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 is what are they doing?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rick Jackson, APR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llow PRSA1932 – 2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F216-6E51-41E7-84DD-CD26F87341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4 Steps To Public Behavior Chang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lition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einforc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A609-4570-4166-948F-E2667A3C8C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70102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ocus on Stakeholders Who Can Give You 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Behavior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9DF5-1818-4395-ACE2-88D5C85241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"/>
          <p:cNvSpPr/>
          <p:nvPr/>
        </p:nvSpPr>
        <p:spPr>
          <a:xfrm>
            <a:off x="1066680" y="281952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2590920" y="281952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4343400" y="281952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7"/>
          <p:cNvSpPr/>
          <p:nvPr/>
        </p:nvSpPr>
        <p:spPr>
          <a:xfrm>
            <a:off x="6172200" y="281952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"/>
          <p:cNvSpPr/>
          <p:nvPr/>
        </p:nvSpPr>
        <p:spPr>
          <a:xfrm>
            <a:off x="7696080" y="281952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066680" y="1495080"/>
            <a:ext cx="662940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609480" y="3886200"/>
            <a:ext cx="822600" cy="19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2209680" y="3886200"/>
            <a:ext cx="822600" cy="19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3886200" y="3886200"/>
            <a:ext cx="914400" cy="1981080"/>
          </a:xfrm>
          <a:prstGeom prst="flowChartAlternate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5638680" y="3962520"/>
            <a:ext cx="822600" cy="19047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7315200" y="3962520"/>
            <a:ext cx="822240" cy="18288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685800" y="3733920"/>
            <a:ext cx="731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ea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 s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f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2209680" y="3962520"/>
            <a:ext cx="838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pin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n’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3886200" y="3962520"/>
            <a:ext cx="914400" cy="18288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Willing to Discu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open mind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will drive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5638680" y="4038480"/>
            <a:ext cx="822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ve opin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n’t do anyth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ab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7315200" y="3886200"/>
            <a:ext cx="822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ea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d made 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as soon as hear of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0"/>
          <p:cNvSpPr/>
          <p:nvPr/>
        </p:nvSpPr>
        <p:spPr>
          <a:xfrm>
            <a:off x="1066680" y="15238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1"/>
          <p:cNvSpPr/>
          <p:nvPr/>
        </p:nvSpPr>
        <p:spPr>
          <a:xfrm>
            <a:off x="2514600" y="152388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2"/>
          <p:cNvSpPr/>
          <p:nvPr/>
        </p:nvSpPr>
        <p:spPr>
          <a:xfrm>
            <a:off x="4343400" y="152388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>
            <a:off x="6172200" y="152388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4"/>
          <p:cNvSpPr/>
          <p:nvPr/>
        </p:nvSpPr>
        <p:spPr>
          <a:xfrm>
            <a:off x="7696080" y="152388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7632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100% of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-228600" y="1279440"/>
            <a:ext cx="360" cy="360"/>
          </a:xfrm>
          <a:prstGeom prst="rect">
            <a:avLst/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7"/>
          <p:cNvSpPr/>
          <p:nvPr/>
        </p:nvSpPr>
        <p:spPr>
          <a:xfrm>
            <a:off x="-228600" y="1279440"/>
            <a:ext cx="360" cy="360"/>
          </a:xfrm>
          <a:prstGeom prst="rect">
            <a:avLst/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8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How Americans Typically Respond to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609480" y="2057400"/>
            <a:ext cx="79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%                               45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8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45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mmediate                   Lean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Opinion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Leaning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Im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vorable                  Favorable                          Leaders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Unfavorable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Unfavor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4570-3641-484E-A798-B5B3AD1C85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oger’s Diffusion of Innov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3" descr="330px-Diffusionofide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153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rinity Health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rgest health system in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in 2000 after merger of MHS and H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,000+ FTEs; 11,000 physicians (only 3400 employ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 hospitals, 432 outpatient, 32 LTC, 10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arrier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s resistant to learning new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mandate for non-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, change of leadership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implementation (3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xpense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pportunit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care field trending toward electronic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 show improved quality of care, reduced error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$ to upgrade … penalities after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nk like a doctor = lots of facts,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training and education to solidify the “wh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evaluation – “hands 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ty endors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ian testimon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adopters leading the lagg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trategies (continue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 to Values “we are called to be innovative in improving health delive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alization of campaign vs. corporate cookie cu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eps to Behavior Chang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8007-28F0-46EC-9DF2-68A659C28F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y Seek Behavior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public relations from the realm of “nice to have” to “need to h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of physicians in ER logging orders into system 15-20% to 70-90% in on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EDDE-5272-4657-ADA9-60D1C384F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File:Cemetery in Temple, New Hampshi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53352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3"/>
          <p:cNvSpPr/>
          <p:nvPr/>
        </p:nvSpPr>
        <p:spPr>
          <a:xfrm>
            <a:off x="304920" y="2362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Temple, New Hamp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9F3F-2DDC-40C3-8DA6-74F4B3CB9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250px-Hillsborough-Temple-N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371600"/>
            <a:ext cx="6095880" cy="472428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27432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emple, New Hamp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3383-7418-4AEE-94F7-A90F130B61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riggering Events &amp; Ac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 Climate Change Resolution lead up to 2008 presidential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ointment of town energ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Department ro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ventory done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e St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9E97-0292-4726-99E7-B8988B6A10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trategies &amp; Theories Utiliz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-in-door (psych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erleading (soci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 Leaders, Role Models (Social Network The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 Loop (Cue/Routine/Re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Continuum &amp; Triggering Events (Behavioral PR The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69EC-ACC9-45DA-92FC-9AEC71B282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stions? Discussion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Jack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Jack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&amp; Wa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Passion is to help an organization achieve effective relationships with both internal and external stakeholders, so that mutually desired behaviors result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a84d8"/>
                </a:solidFill>
                <a:uFillTx/>
                <a:latin typeface="Bookman Old Style"/>
                <a:hlinkClick r:id="rId1"/>
              </a:rPr>
              <a:t>www.jjwpr.com</a:t>
            </a:r>
            <a:r>
              <a:rPr b="0" lang="en-US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AB98-2C42-492A-8EAE-D9ACF1BE63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ange occurs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pain of not changing is greater than the pain of the status qu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66E5-A6DB-41A7-BB59-8A7771A6E1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Chances of Achiev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havior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eople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A24F-B2D7-4898-8E04-FC25DF8B4F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eas of Study With Behavioral Theories Useful to Public Rela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Psyc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r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c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B5D0-27DA-4165-A222-A3E47A754D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havioral Economic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A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in of loss is 2x intensity of pleasure of 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Quo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dency to strongly prefer to sit with what we “own” over buying more or discard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37D9-3F80-435C-9594-82C4114F7B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havioral Psycholog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Process Theory of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ic and emotional (gu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er, more reaso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hua Greene, professor at Harvard and leader in Moral Psych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he time, when we’re deciding what is the right thing to do, what’s happening in the brain is the emotional response, not the reasoned one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E8C6-9927-4056-BA80-3DB6006C05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rganization Behavio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-Hygiene Theory (Herzbe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14400" y="2286000"/>
            <a:ext cx="3886200" cy="2928960"/>
          </a:xfrm>
          <a:prstGeom prst="rect">
            <a:avLst/>
          </a:prstGeom>
          <a:noFill/>
          <a:ln w="25560">
            <a:solidFill>
              <a:srgbClr val="4f9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giene Factors        (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ies and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erson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, status,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800600" y="2286000"/>
            <a:ext cx="4038480" cy="2593440"/>
          </a:xfrm>
          <a:prstGeom prst="rect">
            <a:avLst/>
          </a:prstGeom>
          <a:noFill/>
          <a:ln w="25560">
            <a:solidFill>
              <a:srgbClr val="4f9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ors (The Job Itse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tion for accompl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and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20:18:36Z</dcterms:created>
  <dc:creator>Stacey Smith</dc:creator>
  <dc:description/>
  <dc:language>en-US</dc:language>
  <cp:lastModifiedBy>Stacey Smith</cp:lastModifiedBy>
  <dcterms:modified xsi:type="dcterms:W3CDTF">2012-10-11T19:50:02Z</dcterms:modified>
  <cp:revision>29</cp:revision>
  <dc:subject/>
  <dc:title>Driving Choices and Changing Behaviors </dc:title>
</cp:coreProperties>
</file>