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7D86C-D6F1-4E52-84E9-D6E06375C326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CFF07-65EE-486E-8CA2-136AA7A08A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8A5AA-5F9C-4C5B-8B77-4D5F821440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4BADE-89B2-4FB5-9100-0BB7AB04BF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87E70-076E-4F8E-A16C-691A376E65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B0EA2-D59D-4074-B284-85BEF97078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23BFD-6F3B-4B8F-A79F-F210DE2139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38B-429D-4159-9147-C1E510E8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B2F-231E-4509-9E9B-39A09A4B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7D5-DB11-4541-B79C-55D5F8F2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BBC-A36B-4BC9-B34F-12C5CF50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C540-D8EE-4649-A150-73B210D3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C956-33CF-4A59-9D5C-56EEB973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E2B2-9662-4F87-A51F-803EC410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274C-63D2-476D-94A2-0BBCC84E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9DBD-2376-43E0-8242-6112B3F5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5660-F090-4305-94B3-77F3A8C1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F5DB-D9C0-4CD4-B3CA-18D00A60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270-A456-4EEC-B60E-6E130537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FD50-1968-4854-9E65-C25E9EA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E03C-16C6-4038-90C6-F7CD4B2E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AEE4-66AE-45F0-984E-26E7E069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EE0A-8F24-4DB3-9743-7943410A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12CD-C6EA-4CAA-9280-FA53CBA0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FF5E-0C08-4260-9212-6CE1C65C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CEB3-FC25-40E1-9B82-B2C59C17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2B550-8F4B-4187-8BDD-F3DCCDF5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645D-3E9E-478B-9EFB-AB845386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56DF-6C19-4708-845C-459A0C2B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08A-30DB-471A-B1A8-4C693CD0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58E5-DEFE-4D41-A91D-0AECCC6F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3F0D6-4DAC-4893-AC85-9641758B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B706-84A2-4C75-B108-0B9AEDB7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7FD8-1010-43B9-8AF9-779D52F0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9512-DE9B-48B1-9026-5029E5C8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BCD2-0D59-410A-8668-20735DEB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AAB3-B8D0-4BFD-B765-98CB98C2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7165-9BEC-40B3-8792-0B2A5688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6AFF5-91B1-4661-A260-130F3B39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2A01-01AC-4D6F-AD8D-86A3C191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5AF-B64C-409F-ACC5-0AD45172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E69E5-096F-4481-BFFC-532D136D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27013-7581-49E6-B888-9F7739F6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D614-F40B-408B-9668-B2D973FA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A7A71-E472-4831-B174-341618F2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C4AB-41CA-49A6-8B63-5A4B9D2B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C917-A9A4-4425-83B5-9B65CBA0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CCA2-797D-4299-BB1B-AFAE16A4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EE2D6-F212-4E2E-BDB4-7681E0D1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C314-B087-469C-95CF-EEA9BD47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2222F-DE7E-4AC7-BD6F-3965E5AD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E3C-6B9C-49E2-981B-3C297669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5D12C-A1B6-480E-8984-EFEEB757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80764-8F96-427A-848F-510F42F6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F8E36-E3E8-4B71-B29C-BD04CCAF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90CD-D4B7-401D-B44A-B0BEF51E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63F98-4BEA-43F9-AF01-871C3ADE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01D64-0612-4EAB-B86E-599557B5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EC447-273E-4378-BC7F-08F814C6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0492F-69A2-4F0F-955A-C31B771E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85896-3542-4751-B3BA-0F573B44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900C-0A6B-4B14-9D5E-E85A4DE8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BD8-A3DC-45C8-8638-D70A0CB7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362CB-A523-4FAD-AF1A-2B9BE4F8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BC3C6-FFF1-475D-8548-5C5E4158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A66E-9F46-425C-A831-2BE72C59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CA107-5468-46E7-9BDE-774F3980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16156-79EE-4AF0-9F5E-0E265FE1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2CC70-DC8D-4C14-A12F-73D4BC03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D6567-1A51-48AA-9B17-3A49668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74F3-43D8-4836-A7AE-1A7C1FBC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C6EA7-9BA0-4109-A4CC-6E36466B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4E3E2-5D58-4DFF-9FB5-40C63A15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ABC-CA4A-4E56-B7BE-EBD4F308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A2503-D1CF-43EB-A245-28930EFD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BD323-FD55-4409-841E-6E071994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BBF22-0964-40AE-AB29-FA623267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8FB-F050-4D2C-913F-0EA526A4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CE7-487A-46B8-A342-F43EAF7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593BA-5CD7-49C1-8A68-677485A6442B}" type="datetime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98C18-6202-4FFB-B801-F492855E5B66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1869A-2BB9-4678-A58B-CFA036776C20}" type="datetime">
              <a:rPr b="0" lang="zh-CN" sz="1400" spc="-1" strike="noStrike">
                <a:solidFill>
                  <a:srgbClr val="696464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2A802-AFBC-47CF-A4ED-040881079AA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2D76D-866E-4D7E-8DD2-1F9F6FCF52CC}" type="datetime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051CE-E5A5-4C86-A0FA-90C360C8CE01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ounded Rectangle 7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8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55091-C598-4531-A72F-CDC025A31C1E}" type="datetime">
              <a:rPr b="0" lang="zh-CN" sz="1400" spc="-1" strike="noStrike">
                <a:solidFill>
                  <a:srgbClr val="696464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4112A-C6D6-42DD-A20F-9AEF6DD03E7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D5130-626F-4107-AC67-8063966DAB13}" type="datetime">
              <a:rPr b="0" lang="zh-CN" sz="1400" spc="-1" strike="noStrike">
                <a:solidFill>
                  <a:srgbClr val="696464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4ECA0-3C2F-44B5-91CD-0076220549F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D0A26-364C-46CD-BED8-957DB763DC97}" type="datetime">
              <a:rPr b="0" lang="zh-CN" sz="1400" spc="-1" strike="noStrike">
                <a:solidFill>
                  <a:srgbClr val="696464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0335E-4D40-47AC-A234-6A33AE1377C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87520" y="3306240"/>
            <a:ext cx="7796160" cy="4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ngmei Shen, Ph.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y-Ling Sha, Ph.D. &amp; AP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vid M. Dozier, Ph.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ol of Journalism &amp; Media Stud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n Diego State Univers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587520" y="1836720"/>
            <a:ext cx="7851600" cy="12621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llow the Money: Why Women Still Earn Less Than Men in P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44680" y="274680"/>
            <a:ext cx="8022960" cy="144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5 Routes to Gendered Pay Inequ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44680" y="1724040"/>
            <a:ext cx="830736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7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om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ess experien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er incom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98960" indent="-498960">
              <a:spcBef>
                <a:spcPts val="67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om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ess experien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ess manager role enactment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ess decision-making participat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er incom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98960" indent="-498960">
              <a:spcBef>
                <a:spcPts val="67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om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-paying specialization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er incom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98960" indent="-498960">
              <a:spcBef>
                <a:spcPts val="67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om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ess experien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-paying specialization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er incom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98960" indent="-49896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Women </a:t>
            </a: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Lower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nnual Income: Men vs. Wom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1752480"/>
          <a:ext cx="9078840" cy="4451400"/>
        </p:xfrm>
        <a:graphic>
          <a:graphicData uri="http://schemas.openxmlformats.org/drawingml/2006/table">
            <a:tbl>
              <a:tblPr/>
              <a:tblGrid>
                <a:gridCol w="2602080"/>
                <a:gridCol w="1998360"/>
                <a:gridCol w="2190960"/>
                <a:gridCol w="2287440"/>
              </a:tblGrid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Mean Income for 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Mean Income for W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Unadju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$94,8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$73,3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$21,5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ju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$84,3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$76,0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$8,305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313" name="Text Box 37"/>
          <p:cNvSpPr/>
          <p:nvPr/>
        </p:nvSpPr>
        <p:spPr>
          <a:xfrm>
            <a:off x="6594480" y="62038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8% Annual Gender Discr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8"/>
          <p:cNvSpPr/>
          <p:nvPr/>
        </p:nvSpPr>
        <p:spPr>
          <a:xfrm>
            <a:off x="8048520" y="582120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773280" y="6411960"/>
            <a:ext cx="42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“What ifs” = 62%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ow Wha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4" descr="ANd9GcSmIkQ_OA3yGufCwLnF5hNHGdF7-sJWLLd4oKlYJCJFBEdlKd3mDw"/>
          <p:cNvPicPr/>
          <p:nvPr/>
        </p:nvPicPr>
        <p:blipFill>
          <a:blip r:embed="rId2"/>
          <a:stretch/>
        </p:blipFill>
        <p:spPr>
          <a:xfrm>
            <a:off x="574560" y="18144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ANd9GcSitAnmcnyhZ5pkzTygj0SFc3eNJ5n6odX4u4453XlqdvMIALke"/>
          <p:cNvPicPr/>
          <p:nvPr/>
        </p:nvPicPr>
        <p:blipFill>
          <a:blip r:embed="rId3"/>
          <a:stretch/>
        </p:blipFill>
        <p:spPr>
          <a:xfrm>
            <a:off x="6442200" y="1814400"/>
            <a:ext cx="1896840" cy="2276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ANd9GcS49AO3LXWnzfw0jNFFly_dRH-FhHmjVkolBDhRW4IU0OhtkUXH&amp;t=1"/>
          <p:cNvPicPr/>
          <p:nvPr/>
        </p:nvPicPr>
        <p:blipFill>
          <a:blip r:embed="rId4"/>
          <a:stretch/>
        </p:blipFill>
        <p:spPr>
          <a:xfrm>
            <a:off x="3397320" y="2952720"/>
            <a:ext cx="24987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men vs. Men: Salary in PR*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10" descr="ANd9GcTdZqgSttuKg-VgyRpaOyqoTgJG-9V3YsMk2dIHICCwDBmXae0XSQ"/>
          <p:cNvPicPr/>
          <p:nvPr/>
        </p:nvPicPr>
        <p:blipFill>
          <a:blip r:embed="rId2"/>
          <a:stretch/>
        </p:blipFill>
        <p:spPr>
          <a:xfrm>
            <a:off x="4410000" y="3425760"/>
            <a:ext cx="2440080" cy="25941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566640" y="1752120"/>
            <a:ext cx="409752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omen: $ 0.78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4664160" y="1752480"/>
            <a:ext cx="4479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Men: $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741240" y="6216480"/>
            <a:ext cx="301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566640" y="621648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 &amp; Dozier (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17400" y="4249800"/>
            <a:ext cx="56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i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“What ifs” (I): Professional Experien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men = less experience = less pa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22860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22860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22860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5" descr="iStock_000002903168XSmall"/>
          <p:cNvPicPr/>
          <p:nvPr/>
        </p:nvPicPr>
        <p:blipFill>
          <a:blip r:embed="rId2"/>
          <a:stretch/>
        </p:blipFill>
        <p:spPr>
          <a:xfrm>
            <a:off x="2646360" y="3276720"/>
            <a:ext cx="4156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560" y="0"/>
            <a:ext cx="856944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“What ifs” (II): Manager Role Enactment &amp; Participation in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men = less experience = less enactment of manager role = less decision-making participation = less p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5" descr="ANd9GcRvTRKM8TLTctK5fAyIHwX_jss9TkHa6o-Dt-Yd20Hmz7AJh8gh9g"/>
          <p:cNvPicPr/>
          <p:nvPr/>
        </p:nvPicPr>
        <p:blipFill>
          <a:blip r:embed="rId2"/>
          <a:stretch/>
        </p:blipFill>
        <p:spPr>
          <a:xfrm>
            <a:off x="1135080" y="3592440"/>
            <a:ext cx="35672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“What Ifs” (III): Special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men = lower-paying specialization = less p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22860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9" descr="arrow-investor"/>
          <p:cNvPicPr/>
          <p:nvPr/>
        </p:nvPicPr>
        <p:blipFill>
          <a:blip r:embed="rId2"/>
          <a:stretch/>
        </p:blipFill>
        <p:spPr>
          <a:xfrm>
            <a:off x="5321160" y="3081240"/>
            <a:ext cx="3481560" cy="29718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"/>
          <p:cNvSpPr/>
          <p:nvPr/>
        </p:nvSpPr>
        <p:spPr>
          <a:xfrm>
            <a:off x="533520" y="3773520"/>
            <a:ext cx="47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*Org typ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Women = lower-paying org. = less p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“What ifs” (IV): Career Interruptions (Non-Baby Relate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men = income-suppressing interruptions = less p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kelly_1"/>
          <p:cNvPicPr/>
          <p:nvPr/>
        </p:nvPicPr>
        <p:blipFill>
          <a:blip r:embed="rId2"/>
          <a:stretch/>
        </p:blipFill>
        <p:spPr>
          <a:xfrm>
            <a:off x="5154480" y="3249720"/>
            <a:ext cx="3413160" cy="266544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7"/>
          <p:cNvSpPr/>
          <p:nvPr/>
        </p:nvSpPr>
        <p:spPr>
          <a:xfrm>
            <a:off x="7148520" y="2639880"/>
            <a:ext cx="914400" cy="609840"/>
          </a:xfrm>
          <a:prstGeom prst="wedgeEllipseCallout">
            <a:avLst>
              <a:gd name="adj1" fmla="val -61458"/>
              <a:gd name="adj2" fmla="val 7005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5691240" y="2639880"/>
            <a:ext cx="1095480" cy="609840"/>
          </a:xfrm>
          <a:prstGeom prst="wedgeEllipseCallout">
            <a:avLst>
              <a:gd name="adj1" fmla="val -59564"/>
              <a:gd name="adj2" fmla="val 7005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8215200" y="2639880"/>
            <a:ext cx="914400" cy="609840"/>
          </a:xfrm>
          <a:prstGeom prst="wedgeEllipseCallout">
            <a:avLst>
              <a:gd name="adj1" fmla="val -61458"/>
              <a:gd name="adj2" fmla="val 9505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“What ifs” (V): Hrs. Per Da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8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omen = less hrs worked = less pa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5" descr="working_overtime"/>
          <p:cNvPicPr/>
          <p:nvPr/>
        </p:nvPicPr>
        <p:blipFill>
          <a:blip r:embed="rId2"/>
          <a:stretch/>
        </p:blipFill>
        <p:spPr>
          <a:xfrm>
            <a:off x="3292560" y="2201760"/>
            <a:ext cx="29638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, Let’s find out: Surve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66280" y="2018880"/>
            <a:ext cx="80010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Online survey of PRSA members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itial sample = 4,714 current members, randomly selected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18.6% completion rat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Only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active practitioners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included in final sampl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educ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retired PRSA me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did we find?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3" descr="Parsimonious Model.tiff"/>
          <p:cNvPicPr/>
          <p:nvPr/>
        </p:nvPicPr>
        <p:blipFill>
          <a:blip r:embed="rId2"/>
          <a:stretch/>
        </p:blipFill>
        <p:spPr>
          <a:xfrm>
            <a:off x="574560" y="1779480"/>
            <a:ext cx="8371080" cy="492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23:58:17Z</dcterms:created>
  <dc:creator>David Dozier</dc:creator>
  <dc:description/>
  <dc:language>en-US</dc:language>
  <cp:lastModifiedBy>Hongmei</cp:lastModifiedBy>
  <cp:lastPrinted>2012-05-24T04:22:26Z</cp:lastPrinted>
  <dcterms:modified xsi:type="dcterms:W3CDTF">2012-08-30T22:21:24Z</dcterms:modified>
  <cp:revision>17</cp:revision>
  <dc:subject/>
  <dc:title>Why Women Earn Less Than Men: The Cost of Gender Discrimination in U.S. Public Relations</dc:title>
</cp:coreProperties>
</file>