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6992A-8E56-4370-8750-69D53510EC6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D63B4-5289-4D4B-A787-BF00FBE370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66EF9-99A1-4A57-85BA-5F8A624B3D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5FE44-7AF5-435D-AB87-92EBD30FE7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DD168-C51C-4E23-86C5-A53AB34610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74A88-2700-40D0-AAF7-571E1BFCD3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B19D-B606-411C-8893-AC851D33A0C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B658-515E-4AB1-9448-696A4F4E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8C9-A58B-42AF-8654-0CAB269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890-A8AE-48E7-A3AC-9CCD2FDD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F7D-2C42-4214-8B02-6A03022C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407-2898-4D99-A5D5-A66ACA64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B3F-1193-4505-9665-C80B1287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5325-88EA-4969-A6C3-61886F3C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132C-55AE-4F23-AFDE-E20DC3BA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79E-A12F-497E-9696-C57B79F8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DEF6-DCEB-4D87-B3C5-8C1110B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0C8D-4E00-427A-8797-47980AD2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690-D332-41A4-9CAF-8FF175C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5E2B-2528-4A06-BDB0-33CECFA4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6E8E-28E4-4481-ABC6-97C8885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9128-2A7B-431C-962D-47E2FE8B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E75E-9021-4B29-AEEC-94AA508E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6C21-D1C3-459F-81D3-BA3D6EED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EB79-E814-4A5A-9554-45EF1D2F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48D0-2CE1-4DAB-9B4E-834FB12E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92454-7B6D-45C7-B6D4-5534AAD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79527-4BE6-41B0-BBBA-35C22681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584A-54E2-4C48-8AFA-DC872282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595-F4F5-4A3B-BA97-3FE4658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FC29-8E25-475D-BC58-AC5C5A57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8BD8-22A3-458E-A42C-390F7BF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6E05C-B2F0-4F48-9D35-84C1410F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5995-A075-4F07-88A1-724B3AB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24213-59AE-4575-9FD6-F4BBA0A8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6D69-D49E-43FD-B55F-EC3E0D8A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A46C8-4C42-4E5C-8391-BC2DB54C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846C-E33E-4100-B42F-4E59A740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6F97-7276-4C98-B013-0CC2FA80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05AD-619C-4E04-AC13-89C395C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168-2400-43A6-9637-FAA8E7B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A2D9-F82B-4532-9D82-BD1DB94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BDD4-18E7-4339-9A24-CD5C829B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06D1-259A-429D-8735-8BFDD00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8BDB-E791-4484-95D7-8366764D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F2C75-17A2-4DF8-A7B6-7625B74E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4B43-7357-427B-9234-4F54778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3D1D-08E1-4E39-BD7C-D889E0F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0E92-A21E-42DB-8FDA-890E0626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42B3-7890-4D8E-8BF7-FDC0BBF7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5543-F27B-4E25-AEC2-6BBA85DA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5E6-7207-447C-ADF5-5BAEB18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A9B37-552E-4D8A-B482-C7D0141C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30C7F-E9A2-4704-AA07-D568CFB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F1642-84A2-48DB-B7AE-0D768E22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64946-6E79-45E8-84BD-AAA58E7D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ACD3-63DE-4471-8C91-1F11704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5D28F-C9B9-4AE7-B57F-DF8A513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B8D34-D09D-4CBF-8799-E11E243F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1DC6-A79A-4D2A-BC41-8403669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91B17-E875-4C06-9A0A-CEC74F3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082A9-CFCF-4021-8182-9218D17F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337-D455-472A-8547-7FA5183D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157A-341B-49ED-BF6D-EC7EC9FB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4975-53C0-495D-97B5-398E0E2A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C95FE-DE79-41AF-A719-9B17D38B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C3AF0-5BB4-47C8-AEB7-30416609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F6A66-3392-4988-BB36-3EB869EF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28260-D935-46E5-BBFB-E8F7ADD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F366-B5A3-402F-9ACA-F2FFC421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8999-6DE8-4C08-BA3E-3417F42B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36716-7870-4CFD-9A69-A5E94AC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E864-3F5E-4BA1-B60B-7EE9A6C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B28-E8D2-4B8F-B5D0-AD68B532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D866-9BFC-4581-AC2D-A78AC360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8044D-25AB-4112-A44A-FF223140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EE83-8403-470D-BECC-E530BE26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A90-712F-423D-A464-69D6D6D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167-8AE6-47B0-8782-CF38947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E7CCF-E0F4-4B99-B4A2-9E36D17FE41F}" type="datetime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2B825-AA36-48C9-AA0D-DD4161DE5DE2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8834F-4B58-46F0-9C00-5F872CBF6D55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78E2F-2BEE-463F-9F68-A11F5610DB3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0D0FE-4A91-4873-ADC3-DAABE2F27FBD}" type="datetime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65C09-C918-471E-8E1E-F2B27461340C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ounded Rectangle 7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3306E-35D0-418D-A5B7-47AAC27C0361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BDFFE-9864-478A-82C5-F91B6CB338B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90EE3-C233-4FF1-880C-2C94686F6BF0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7158E-D40B-4D9C-AFA1-FF2000B463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5C873-BC64-4EC7-B2F6-4D511E6302C6}" type="datetime">
              <a:rPr b="0" lang="zh-CN" sz="1400" spc="-1" strike="noStrike">
                <a:solidFill>
                  <a:srgbClr val="696464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7AE4E-1D92-4F48-B6F3-273E931E5B4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87520" y="3306240"/>
            <a:ext cx="7796160" cy="4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ngmei Shen, Ph.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y-Ling Sha, Ph.D. &amp; AP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vid M. Dozier, Ph.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ol of Journalism &amp; Media Stud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n Diego State Univers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587520" y="1836720"/>
            <a:ext cx="7851600" cy="12621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llow the Money: Why Women Still Earn Less Than Men in P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44680" y="274680"/>
            <a:ext cx="8022960" cy="1449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 Routes to Gendered Pay Inequ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44680" y="1724040"/>
            <a:ext cx="8307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manager role enactment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decision-making participatio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-paying specialization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675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omen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ess experienc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-paying specializations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Lower incom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98960" indent="-49896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Women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 Lower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nnual Income: Men vs. Wom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752480"/>
          <a:ext cx="9078840" cy="4451400"/>
        </p:xfrm>
        <a:graphic>
          <a:graphicData uri="http://schemas.openxmlformats.org/drawingml/2006/table">
            <a:tbl>
              <a:tblPr/>
              <a:tblGrid>
                <a:gridCol w="2602080"/>
                <a:gridCol w="1998360"/>
                <a:gridCol w="2190960"/>
                <a:gridCol w="228744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Mean Income for 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Mean Income for 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Differ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Un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94,8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73,3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21,5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jus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84,3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$76,0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$8,305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313" name="Text Box 37"/>
          <p:cNvSpPr/>
          <p:nvPr/>
        </p:nvSpPr>
        <p:spPr>
          <a:xfrm>
            <a:off x="6594480" y="620388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8% Annual Gender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8"/>
          <p:cNvSpPr/>
          <p:nvPr/>
        </p:nvSpPr>
        <p:spPr>
          <a:xfrm>
            <a:off x="8048520" y="582120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773280" y="6411960"/>
            <a:ext cx="42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The “What ifs” = 62%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ow Wha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4" descr="ANd9GcSmIkQ_OA3yGufCwLnF5hNHGdF7-sJWLLd4oKlYJCJFBEdlKd3mDw"/>
          <p:cNvPicPr/>
          <p:nvPr/>
        </p:nvPicPr>
        <p:blipFill>
          <a:blip r:embed="rId2"/>
          <a:stretch/>
        </p:blipFill>
        <p:spPr>
          <a:xfrm>
            <a:off x="574560" y="18144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ANd9GcSitAnmcnyhZ5pkzTygj0SFc3eNJ5n6odX4u4453XlqdvMIALke"/>
          <p:cNvPicPr/>
          <p:nvPr/>
        </p:nvPicPr>
        <p:blipFill>
          <a:blip r:embed="rId3"/>
          <a:stretch/>
        </p:blipFill>
        <p:spPr>
          <a:xfrm>
            <a:off x="6442200" y="1814400"/>
            <a:ext cx="1896840" cy="2276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ANd9GcS49AO3LXWnzfw0jNFFly_dRH-FhHmjVkolBDhRW4IU0OhtkUXH&amp;t=1"/>
          <p:cNvPicPr/>
          <p:nvPr/>
        </p:nvPicPr>
        <p:blipFill>
          <a:blip r:embed="rId4"/>
          <a:stretch/>
        </p:blipFill>
        <p:spPr>
          <a:xfrm>
            <a:off x="3397320" y="2952720"/>
            <a:ext cx="24987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men vs. Men: Salary in PR*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10" descr="ANd9GcTdZqgSttuKg-VgyRpaOyqoTgJG-9V3YsMk2dIHICCwDBmXae0XSQ"/>
          <p:cNvPicPr/>
          <p:nvPr/>
        </p:nvPicPr>
        <p:blipFill>
          <a:blip r:embed="rId2"/>
          <a:stretch/>
        </p:blipFill>
        <p:spPr>
          <a:xfrm>
            <a:off x="4410000" y="3425760"/>
            <a:ext cx="2440080" cy="25941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566640" y="1752120"/>
            <a:ext cx="40975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omen: $ 0.78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4664160" y="1752480"/>
            <a:ext cx="4479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Men: $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741240" y="6216480"/>
            <a:ext cx="301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566640" y="621648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 &amp; Dozier (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17400" y="4249800"/>
            <a:ext cx="56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at i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): Professional Experie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less experience = less pa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1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5" descr="iStock_000002903168XSmall"/>
          <p:cNvPicPr/>
          <p:nvPr/>
        </p:nvPicPr>
        <p:blipFill>
          <a:blip r:embed="rId2"/>
          <a:stretch/>
        </p:blipFill>
        <p:spPr>
          <a:xfrm>
            <a:off x="2646360" y="3276720"/>
            <a:ext cx="41562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560" y="0"/>
            <a:ext cx="856944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“What ifs” (II): Manager Role Enactment &amp; Participation in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men = less experience = less enactment of manager role = less decision-making participation = less p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5" descr="ANd9GcRvTRKM8TLTctK5fAyIHwX_jss9TkHa6o-Dt-Yd20Hmz7AJh8gh9g"/>
          <p:cNvPicPr/>
          <p:nvPr/>
        </p:nvPicPr>
        <p:blipFill>
          <a:blip r:embed="rId2"/>
          <a:stretch/>
        </p:blipFill>
        <p:spPr>
          <a:xfrm>
            <a:off x="1135080" y="3592440"/>
            <a:ext cx="35672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II): Special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lower-paying specialization = less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2860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arrow-investor"/>
          <p:cNvPicPr/>
          <p:nvPr/>
        </p:nvPicPr>
        <p:blipFill>
          <a:blip r:embed="rId2"/>
          <a:stretch/>
        </p:blipFill>
        <p:spPr>
          <a:xfrm>
            <a:off x="5321160" y="3081240"/>
            <a:ext cx="3481560" cy="29718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"/>
          <p:cNvSpPr/>
          <p:nvPr/>
        </p:nvSpPr>
        <p:spPr>
          <a:xfrm>
            <a:off x="533520" y="3773520"/>
            <a:ext cx="47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*Org typ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Women = lower-paying org. = less p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“What ifs” (IV): Career Interruptions (Non-Baby Relate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men = income-suppressing interruptions = less p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kelly_1"/>
          <p:cNvPicPr/>
          <p:nvPr/>
        </p:nvPicPr>
        <p:blipFill>
          <a:blip r:embed="rId2"/>
          <a:stretch/>
        </p:blipFill>
        <p:spPr>
          <a:xfrm>
            <a:off x="5154480" y="3249720"/>
            <a:ext cx="3413160" cy="266544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7"/>
          <p:cNvSpPr/>
          <p:nvPr/>
        </p:nvSpPr>
        <p:spPr>
          <a:xfrm>
            <a:off x="7148520" y="2639880"/>
            <a:ext cx="914400" cy="609840"/>
          </a:xfrm>
          <a:prstGeom prst="wedgeEllipseCallout">
            <a:avLst>
              <a:gd name="adj1" fmla="val -61458"/>
              <a:gd name="adj2" fmla="val 70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5691240" y="2639880"/>
            <a:ext cx="1095480" cy="609840"/>
          </a:xfrm>
          <a:prstGeom prst="wedgeEllipseCallout">
            <a:avLst>
              <a:gd name="adj1" fmla="val -59564"/>
              <a:gd name="adj2" fmla="val 70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8215200" y="2639880"/>
            <a:ext cx="914400" cy="609840"/>
          </a:xfrm>
          <a:prstGeom prst="wedgeEllipseCallout">
            <a:avLst>
              <a:gd name="adj1" fmla="val -61458"/>
              <a:gd name="adj2" fmla="val 9505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“What ifs” (V): Hrs. Per 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8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omen = less hrs worked = less pa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5" descr="working_overtime"/>
          <p:cNvPicPr/>
          <p:nvPr/>
        </p:nvPicPr>
        <p:blipFill>
          <a:blip r:embed="rId2"/>
          <a:stretch/>
        </p:blipFill>
        <p:spPr>
          <a:xfrm>
            <a:off x="3292560" y="2201760"/>
            <a:ext cx="29638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, Let’s find out: Surve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66280" y="201888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nline survey of PRSA members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itial sample = 4,714 current members, randomly selected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18.6% completion rat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nly </a:t>
            </a:r>
            <a:r>
              <a:rPr b="0" i="1" lang="en-US" sz="2700" spc="-1" strike="noStrike">
                <a:solidFill>
                  <a:srgbClr val="000000"/>
                </a:solidFill>
                <a:latin typeface="Verdana"/>
              </a:rPr>
              <a:t>active practitioners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 included in final samp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educ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retired PRSA me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did we find?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3" descr="Parsimonious Model.tiff"/>
          <p:cNvPicPr/>
          <p:nvPr/>
        </p:nvPicPr>
        <p:blipFill>
          <a:blip r:embed="rId2"/>
          <a:stretch/>
        </p:blipFill>
        <p:spPr>
          <a:xfrm>
            <a:off x="574560" y="1779480"/>
            <a:ext cx="8371080" cy="492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23:58:17Z</dcterms:created>
  <dc:creator>David Dozier</dc:creator>
  <dc:description/>
  <dc:language>en-US</dc:language>
  <cp:lastModifiedBy>Hongmei</cp:lastModifiedBy>
  <cp:lastPrinted>2012-05-24T04:22:26Z</cp:lastPrinted>
  <dcterms:modified xsi:type="dcterms:W3CDTF">2012-08-30T22:21:24Z</dcterms:modified>
  <cp:revision>17</cp:revision>
  <dc:subject/>
  <dc:title>Why Women Earn Less Than Men: The Cost of Gender Discrimination in U.S. Public Relations</dc:title>
</cp:coreProperties>
</file>